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0D03-8758-4097-BB7D-1333D9164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ED86-66FF-4D7A-86A4-01AA089F9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20AA-1AB7-4E97-BED6-679F5AC16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6CF2-2507-4E8C-B35A-CEE4CB70F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FA1A-E124-4540-A1FD-5B246046D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4F3C-DDDE-405D-86C0-ED3F37AEB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AB94C-24E3-4D27-9119-EEC28A75A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59F3-D7A2-4540-A8D8-B89D1F281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8715-7B34-4FBD-B752-A002C8CF3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9D58-7B85-4BE8-935C-87E74AB50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D46B-A6FA-441A-902A-94E81A816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065D-4B85-42FB-A755-5CCF61E87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6A87-64C1-43FF-967F-BBCDB55EC866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0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Journalizing Cash Receipts Using a Cash Receipts Journa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ING SALES TRANS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429000" y="1600200"/>
            <a:ext cx="2286000" cy="1836720"/>
            <a:chOff x="3429000" y="1600200"/>
            <a:chExt cx="2286000" cy="1836720"/>
          </a:xfrm>
        </p:grpSpPr>
        <p:pic>
          <p:nvPicPr>
            <p:cNvPr id="93" name="C21_blue_1010b" descr=""/>
            <p:cNvPicPr/>
            <p:nvPr/>
          </p:nvPicPr>
          <p:blipFill>
            <a:blip r:embed="rId1"/>
            <a:stretch/>
          </p:blipFill>
          <p:spPr>
            <a:xfrm>
              <a:off x="3757680" y="2405160"/>
              <a:ext cx="143496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429000" y="1600200"/>
              <a:ext cx="228600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C (Universal Product Cod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57200" y="1600200"/>
            <a:ext cx="2286000" cy="3336480"/>
            <a:chOff x="457200" y="1600200"/>
            <a:chExt cx="2286000" cy="3336480"/>
          </a:xfrm>
        </p:grpSpPr>
        <p:pic>
          <p:nvPicPr>
            <p:cNvPr id="96" name="C21_blue_1010a" descr=""/>
            <p:cNvPicPr/>
            <p:nvPr/>
          </p:nvPicPr>
          <p:blipFill>
            <a:blip r:embed="rId2"/>
            <a:stretch/>
          </p:blipFill>
          <p:spPr>
            <a:xfrm>
              <a:off x="457200" y="2404800"/>
              <a:ext cx="2286000" cy="25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7200" y="1600200"/>
              <a:ext cx="228600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sh Register Recei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400800" y="1600200"/>
            <a:ext cx="2286000" cy="3768840"/>
            <a:chOff x="6400800" y="1600200"/>
            <a:chExt cx="2286000" cy="3768840"/>
          </a:xfrm>
        </p:grpSpPr>
        <p:pic>
          <p:nvPicPr>
            <p:cNvPr id="99" name="C21_blue_1010c" descr=""/>
            <p:cNvPicPr/>
            <p:nvPr/>
          </p:nvPicPr>
          <p:blipFill>
            <a:blip r:embed="rId3"/>
            <a:srcRect l="0" t="0" r="1803" b="0"/>
            <a:stretch/>
          </p:blipFill>
          <p:spPr>
            <a:xfrm>
              <a:off x="6400800" y="2405160"/>
              <a:ext cx="2286000" cy="29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400800" y="1600200"/>
              <a:ext cx="228600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int-of-Sale (POS) Terminal Recei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983920" y="6001920"/>
            <a:ext cx="270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(continued on next sl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8C35-2896-4E0A-95E9-1F588511D584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ING SALES TRANS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57200" y="1531800"/>
            <a:ext cx="4114800" cy="4716720"/>
            <a:chOff x="457200" y="1531800"/>
            <a:chExt cx="4114800" cy="4716720"/>
          </a:xfrm>
        </p:grpSpPr>
        <p:pic>
          <p:nvPicPr>
            <p:cNvPr id="105" name="C21_blue_1010d" descr=""/>
            <p:cNvPicPr/>
            <p:nvPr/>
          </p:nvPicPr>
          <p:blipFill>
            <a:blip r:embed="rId1"/>
            <a:srcRect l="3298" t="0" r="3658" b="3500"/>
            <a:stretch/>
          </p:blipFill>
          <p:spPr>
            <a:xfrm>
              <a:off x="457200" y="1531800"/>
              <a:ext cx="2286000" cy="47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286000" y="1614600"/>
              <a:ext cx="22860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rminal Summ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876920" y="1600200"/>
            <a:ext cx="3809880" cy="4025880"/>
            <a:chOff x="4876920" y="1600200"/>
            <a:chExt cx="3809880" cy="4025880"/>
          </a:xfrm>
        </p:grpSpPr>
        <p:pic>
          <p:nvPicPr>
            <p:cNvPr id="108" name="C21_blue_1010e" descr=""/>
            <p:cNvPicPr/>
            <p:nvPr/>
          </p:nvPicPr>
          <p:blipFill>
            <a:blip r:embed="rId2"/>
            <a:stretch/>
          </p:blipFill>
          <p:spPr>
            <a:xfrm>
              <a:off x="4876920" y="1600200"/>
              <a:ext cx="2286000" cy="40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400800" y="2362320"/>
              <a:ext cx="22860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tch 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305680" y="6001920"/>
            <a:ext cx="338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(continued from previous sl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B8BC-0D9A-48A4-8513-5F7066BE4518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H RECEIPTS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C21_blue_1011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1616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6169-8757-49AA-A21B-26DF81547C01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H AND CREDIT CARD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C21_blue_1012" descr=""/>
          <p:cNvPicPr/>
          <p:nvPr/>
        </p:nvPicPr>
        <p:blipFill>
          <a:blip r:embed="rId1"/>
          <a:srcRect l="0" t="0" r="0" b="19941"/>
          <a:stretch/>
        </p:blipFill>
        <p:spPr>
          <a:xfrm>
            <a:off x="304920" y="2209680"/>
            <a:ext cx="8534160" cy="1295640"/>
          </a:xfrm>
          <a:prstGeom prst="rect">
            <a:avLst/>
          </a:prstGeom>
          <a:ln w="0">
            <a:noFill/>
          </a:ln>
        </p:spPr>
      </p:pic>
      <p:pic>
        <p:nvPicPr>
          <p:cNvPr id="116" name="C21_blue_1013" descr=""/>
          <p:cNvPicPr/>
          <p:nvPr/>
        </p:nvPicPr>
        <p:blipFill>
          <a:blip r:embed="rId2"/>
          <a:stretch/>
        </p:blipFill>
        <p:spPr>
          <a:xfrm>
            <a:off x="6172200" y="3967200"/>
            <a:ext cx="2666880" cy="1976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331164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9718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57560" y="331164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29718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61080" y="331164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81880" y="331164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495440"/>
            <a:ext cx="776916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4. Recorded cash and credit card sales, $5,460.00, plus sales tax, $327.60; total, $5,787.60. Terminal Summary 3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39240" y="387036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44280" y="4213080"/>
            <a:ext cx="66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check mark in the Account Titl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46440" y="4556160"/>
            <a:ext cx="65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erminal summary documen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44640" y="4898880"/>
            <a:ext cx="62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check mark in the Post. Ref.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41040" y="5241960"/>
            <a:ext cx="38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ales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42120" y="5584680"/>
            <a:ext cx="42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ales tax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41760" y="5927760"/>
            <a:ext cx="38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ash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09080" y="331164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E93F-01A2-4EC8-8F1A-5F5CEC5684B0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H RECEIPTS ON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C21_blue_1014" descr=""/>
          <p:cNvPicPr/>
          <p:nvPr/>
        </p:nvPicPr>
        <p:blipFill>
          <a:blip r:embed="rId1"/>
          <a:srcRect l="833" t="0" r="800" b="0"/>
          <a:stretch/>
        </p:blipFill>
        <p:spPr>
          <a:xfrm>
            <a:off x="304920" y="2209680"/>
            <a:ext cx="8534160" cy="2040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3280" y="3581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581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47840" y="3581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33800" y="358128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18440" y="3581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1495440"/>
            <a:ext cx="776916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6. Received cash on account from Country Crafters, $2,162.40, covering S69. Receipt No. 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39240" y="447048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42480" y="4835520"/>
            <a:ext cx="43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ustomer’s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42120" y="5199120"/>
            <a:ext cx="40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receip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41400" y="5564160"/>
            <a:ext cx="39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40680" y="5927760"/>
            <a:ext cx="38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9977-0881-4EA6-88FD-942BCB1D1631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URNALIZING CASH RECEIPTS ON ACCOUNT WITH SALES DIS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C21_blue_1017" descr=""/>
          <p:cNvPicPr/>
          <p:nvPr/>
        </p:nvPicPr>
        <p:blipFill>
          <a:blip r:embed="rId1"/>
          <a:srcRect l="450" t="0" r="1061" b="13161"/>
          <a:stretch/>
        </p:blipFill>
        <p:spPr>
          <a:xfrm>
            <a:off x="304920" y="2556000"/>
            <a:ext cx="8534160" cy="1549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42880" y="3886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3886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6920" y="3886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3886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48400" y="38862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48680" y="3886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495440"/>
            <a:ext cx="776916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7. Received cash on account from Cumberland Center, $1,176.00, covering Sales Invoice No. 74 for $1,200.00, less 2% discount, $24.00. Receipt No. 9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76400" y="4581360"/>
            <a:ext cx="497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original invoic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39240" y="458136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42480" y="4943520"/>
            <a:ext cx="43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ustomer’s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2120" y="5315040"/>
            <a:ext cx="40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receip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74240" y="494352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amount of sales dis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76760" y="5318280"/>
            <a:ext cx="381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to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CBF7-4CD3-41E5-80C8-D43643B8233F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ING, PROVING, AND RULING A CASH RECEIPTS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C21_blue_1019" descr=""/>
          <p:cNvPicPr/>
          <p:nvPr/>
        </p:nvPicPr>
        <p:blipFill>
          <a:blip r:embed="rId1"/>
          <a:srcRect l="1058" t="0" r="800" b="0"/>
          <a:stretch/>
        </p:blipFill>
        <p:spPr>
          <a:xfrm>
            <a:off x="304920" y="1600200"/>
            <a:ext cx="8534160" cy="2038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252D-73E8-4791-ABDD-459FAAAF3E91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card 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-of-sale (POS)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ch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ching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receipts j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dis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B881-4151-41B5-B46D-259DE4B1DBFA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48:16Z</dcterms:created>
  <dc:creator>M. C. McLaughlin</dc:creator>
  <dc:description/>
  <dc:language>en-US</dc:language>
  <cp:lastModifiedBy>M. C. McLaughlin</cp:lastModifiedBy>
  <dcterms:modified xsi:type="dcterms:W3CDTF">2005-04-22T22:06:23Z</dcterms:modified>
  <cp:revision>20</cp:revision>
  <dc:subject/>
  <dc:title>Lesson 10-1</dc:title>
</cp:coreProperties>
</file>